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88CA-D65F-4E0E-95C9-E1CF8388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3211-96E0-4AB7-8602-C809316E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B6DC-4B3B-4563-B1AF-EB429BC6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1DFC-9E37-4E84-9AA5-671C3C56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13AA-8F5B-4BFD-8FFE-42CA2E50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F003-C180-42AE-9B94-B6BC69E5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B33A-CAEE-494D-A6BA-491AD57E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976C-5DF6-41EB-804B-90F93FBF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E0E-5AB4-4122-86F2-8671F7BE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70EE-F28B-4ADB-94FE-ABC3EC32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785C-4373-4951-919F-00DDE255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171A-E269-431D-A345-E7C0BFC7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FF2B-0340-437C-8742-7292130D3053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static.aleksinac.net/files/radijacija.jpg&amp;imgrefurl=http://www.aleksinac.net/%3Fview%3Dlat%26action%3Dnews%26id%3Dodakle-radioaktivni-otpad%26category%3Dblog&amp;usg=__PbqfAhCuQ8tPWNn8eUv90xvbSyo=&amp;h=290&amp;w=300&amp;sz=15&amp;hl=en&amp;start=5&amp;zoom=1&amp;tbnid=vNmNDfoYqJFiXM:&amp;tbnh=112&amp;tbnw=116&amp;ei=7N5tTpzUJNLE4gTl4u3NBA&amp;prev=/search%3Fq%3Dradioaktivnost%26hl%3Den%26gbv%3D2%26tbm%3Disch&amp;itbs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214308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Фармакологија и токсикологија за стоматологију – 1. 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898989"/>
                </a:solidFill>
                <a:latin typeface="Comic Sans MS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1000080" y="2286000"/>
            <a:ext cx="735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цептор премошћава липидни слој мембране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ако да поседује два функционална дела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један са спољашње стране мембране з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ји се везују лекови (или ендоге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упстанце) и други са унутрашње стра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ји функционише као енз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822960" y="1000080"/>
            <a:ext cx="72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Рецептори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трансмембрански енз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1071720" y="1857240"/>
            <a:ext cx="7143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цептори везани за Г-протеине су веом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ројни. Ту спадај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адренергички </a:t>
            </a:r>
            <a:r>
              <a:rPr b="1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 и </a:t>
            </a:r>
            <a:r>
              <a:rPr b="1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 рецептор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мускарински рецептор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допамински рецептор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 многи дру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ни се структурно карактеришу тиме шт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њихов пептидни ланац седам пут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олази с краја на крај ћелијск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ембра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1705680" y="785880"/>
            <a:ext cx="629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Рецептори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везани за Г-проте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785880" y="2000160"/>
            <a:ext cx="735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 интраћелијске рецепторе (неки од њих су 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цитоплазми а неки у једру) могу да с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ежу само супстанце које с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ипосолубилне, тј. које могу слободн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а дифундују кроз липидни слој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ембране ћелије. То су пре свег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стероидни хормон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гликокортикоиди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строгени, андрогени, прогестерон)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хормони тироиде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липосолубилни витамини А и 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1910520" y="857160"/>
            <a:ext cx="514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Интраћелијски рецеп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571680" y="855720"/>
            <a:ext cx="8072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фекат неког лека на организам ће бити утолико већи уколико је он присутан у већој мери у близини места свог дејства (најчешће су то рецептор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што лекови до свог места деловања у ткиву доспевају из крви пацијента, они ће на месту свог деловања бити више присутни уколико им је концентрација у крви виша; наравно, концентрација лека у крви ће бити виша уколико је доза лека већа, тј. уколико је пацијент узео већу количину лека. То значи да је ефекат лека у организму утолико већи уколико је доза лека већа, односно уколико је концентрација у крви већ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ваква законитост се назива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дозна зависност ефект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и ми на њој базирамо одређивање потребне дозе лека за сваког пациј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1527840" y="287280"/>
            <a:ext cx="62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ДНОС ДОЗЕ И ЕФЕКТА Л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Терапијски индекс и терапијска ширин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пон између минималне дозе лека која изазива повољни ефекат у организму и минималне дозе лека која изазива токсични ефекат називамо терапијска ширина лек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рапијски индекс је однос дозе лека која код 50% болесника изазива токсични ефекат (TD50) и дозе лека која код 50% болесника изазива жељени ефекат (ED50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785880" y="2071800"/>
            <a:ext cx="7715160" cy="38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екови могу бити синтетског, биљног,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животињског или минерално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порек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Биљно порекло – дигок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Животињско порекло – тирок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инерално порекло – бела г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интетски лек - метопрол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861560" y="785880"/>
            <a:ext cx="57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ОДЕЛА ЛЕКОВА ПО ПОРЕК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285840" y="92880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1. Лековити препарати </a:t>
            </a:r>
            <a:r>
              <a:rPr b="1" i="1" lang="it-IT" sz="2800" spc="-1" strike="noStrike">
                <a:solidFill>
                  <a:srgbClr val="c00000"/>
                </a:solidFill>
                <a:latin typeface="Comic Sans MS"/>
              </a:rPr>
              <a:t>врло јаког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дејства (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Remedia claudenda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Venen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= отров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Супстанце које спадају у ову групу се морају чувати у апотеци одвојено од осталих лекова и под кључ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Посуде у којима се ови лекови чувају морају бити означене именом дотичног лека исписаним белим словима на црној подлози и знаком двоструког крста (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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1143000" y="1643040"/>
            <a:ext cx="7215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2. Лековити препарати </a:t>
            </a:r>
            <a:r>
              <a:rPr b="1" i="1" lang="it-IT" sz="2800" spc="-1" strike="noStrike">
                <a:solidFill>
                  <a:srgbClr val="c00000"/>
                </a:solidFill>
                <a:latin typeface="Comic Sans MS"/>
              </a:rPr>
              <a:t>јаког</a:t>
            </a:r>
            <a:r>
              <a:rPr b="0" lang="it-IT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дејства (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Remedia separanda</a:t>
            </a:r>
            <a:r>
              <a:rPr b="0" lang="it-IT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= одвојени леков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Лекови из ове групе се не морај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закључавати у апотеци, већ је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довољно само да се чувају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одвојено од других лекова.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Означавају се једним крстом (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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428760" y="714240"/>
            <a:ext cx="8286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Опојне дрог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појне дрог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у лековити препарати кој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спољавају снажно дејство на психичке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ункције човека. Опојне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роге се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орају чувати под кључем, у посебној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осторији која је такође закључа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суде са опојним дрогама се означавају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 исти начин као лекови врло јаког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л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јаког дејства, с тим што се додаје и знак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воструког параграфа (§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12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714240" y="801000"/>
            <a:ext cx="7358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 </a:t>
            </a:r>
            <a:r>
              <a:rPr b="1" lang="sv-SE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Радиоактивни леков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адиоактивни лекови 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е морају чуват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кључани, у посебним оловним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утијама које апсорбују зрачење. Означавају се црвено обојеним знаком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 радиоактивност на жутом пољу: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http://t1.gstatic.com/images?q=tbn:ANd9GcR2Rcsxv_fGT2IKfKbz-GK0zI0jDFZL6lNIFBuKxytASfr5rdKhf-Fqpb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0280" y="4433760"/>
            <a:ext cx="17146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571680" y="115956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.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Тригониц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ригониц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у супстанце које смањују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сихомоторну способност болесника.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зивају се тригоници зато што се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значавају црвеним троуглом на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елом пољ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071880" y="4572000"/>
            <a:ext cx="2071800" cy="1714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Isosceles Triangle 4"/>
          <p:cNvSpPr/>
          <p:nvPr/>
        </p:nvSpPr>
        <p:spPr>
          <a:xfrm>
            <a:off x="3286080" y="4857840"/>
            <a:ext cx="1643040" cy="107136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500040" y="1357200"/>
            <a:ext cx="8143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Листу лекова, са максимално дозвољеним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дозама, који се могу купити без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рецепта, утврђује својим актом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Министарство здравља или вла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Такве лекове називамо </a:t>
            </a:r>
            <a:r>
              <a:rPr b="1" lang="it-IT" sz="2800" spc="-1" strike="noStrike" u="sng">
                <a:solidFill>
                  <a:srgbClr val="c00000"/>
                </a:solidFill>
                <a:uFillTx/>
                <a:latin typeface="Comic Sans MS"/>
              </a:rPr>
              <a:t>OTC препаратима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што је скраћеница њиховог назива у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англо-саксонским земљам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ver 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ounter лекови (лекови кој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се издају “преко касе”, тј. за новац, а без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рецеп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214200" y="2071800"/>
            <a:ext cx="8715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Рецепт је писано упутство на латинском језику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за справљање и издавање лека које лекар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шаље апотекару. Пошто од рецепта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завис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шта ће апотекар издати болеснику и какво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упутство за примену ће му дати, рецепт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мора бити написан </a:t>
            </a:r>
            <a:r>
              <a:rPr b="1" i="1" lang="it-IT" sz="2800" spc="-1" strike="noStrike">
                <a:solidFill>
                  <a:srgbClr val="c00000"/>
                </a:solidFill>
                <a:latin typeface="Comic Sans MS"/>
              </a:rPr>
              <a:t>прецизно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(према свим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важећим правилима) и</a:t>
            </a:r>
            <a:r>
              <a:rPr b="1" i="1" lang="it-IT" sz="2800" spc="-1" strike="noStrike">
                <a:solidFill>
                  <a:srgbClr val="c00000"/>
                </a:solidFill>
                <a:latin typeface="Comic Sans MS"/>
              </a:rPr>
              <a:t>читко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707640" y="85716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РЕЦЕП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500040" y="1500120"/>
            <a:ext cx="82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Назив рецепт потиче од латинске реч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2800" spc="-1" strike="noStrike">
                <a:solidFill>
                  <a:srgbClr val="c00000"/>
                </a:solidFill>
                <a:latin typeface="Comic Sans MS"/>
              </a:rPr>
              <a:t>praeceptum</a:t>
            </a:r>
            <a:r>
              <a:rPr b="0" lang="it-IT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што значи пропис. Само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лекови слабог дејства се могу издат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у апотеци без лекарског рецепта; св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остали лекови се могу издати </a:t>
            </a:r>
            <a:r>
              <a:rPr b="1" i="1" lang="it-IT" sz="2800" spc="-1" strike="noStrike">
                <a:solidFill>
                  <a:srgbClr val="c00000"/>
                </a:solidFill>
                <a:latin typeface="Comic Sans MS"/>
              </a:rPr>
              <a:t>само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уз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рецеп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Рецепт може да напише само лекар (али 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стоматолог или ветеринар) који је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положио државни испит (дакле има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право да обавља праксу на териториј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Србиј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707640" y="71424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РЕЦЕП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2428920" y="1071720"/>
            <a:ext cx="45720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ДЕЛОВИ РЕЦЕП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INSCRIP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INVOC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ORDIN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SUBSCRIP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SIGN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NOMEN MED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571680" y="2158200"/>
            <a:ext cx="785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isal tablettae          0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scatulam originalem N</a:t>
            </a:r>
            <a:r>
              <a:rPr b="0" lang="pt-BR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(una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Четири пута дневно размути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у таблету у чаши воде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ити ј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992160" y="857160"/>
            <a:ext cx="73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ПРОПИСИВАЊЕ ГОТОВИХ ЛЕ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817200" y="857160"/>
            <a:ext cx="717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ПРОПИСИВАЊЕ МАГИСТРАЛН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ЛЕ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285840" y="2343240"/>
            <a:ext cx="8572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smuti subgallatis              10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ci                            ad   100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ce fiat pulv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ad scatul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. Споља, посути оболела места три пу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невно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285840" y="1071720"/>
            <a:ext cx="8501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Comic Sans MS"/>
              </a:rPr>
              <a:t>Фармакологиј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је наука која проу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ч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ава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интеракције хемијских су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станци 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живим организмом. Сачињавају је д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велика дела: фармакодинамика 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фармакокине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Фармакодинамик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проучава дејства лека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а организам, а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фармакокинетик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удбину лека у организм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(апсорпциј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истрибуцију, метаболизам и екскрециј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642960" y="1071720"/>
            <a:ext cx="7858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јвећи број лекова делује тако што се у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рганизму везује за специфичн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есто које називамо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рецепто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цептор је увек макромолекул, најчешћ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отеин, за кога се у физиолошким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словима везује нека природна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ндогена супстанца, изазивајућ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омене у облику рецептора (тзв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онформационе промене). Такву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упстанцу називамо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ендогени лиган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500040" y="1000080"/>
            <a:ext cx="8358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ко лек изазива промене облика рецептора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личне променама које настају посл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езивања ендогеног лиган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тј. рецептор пређе у активно стање)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акав лек називамо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Comic Sans MS"/>
              </a:rPr>
              <a:t>агонистом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ко пак лек после везивања за рецептор н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зазове никакве промене обл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тј. рецептор остаје у инактивном стању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ећ само омета везивање (а тим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ејство) ендогеног лиганда, такав л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зивам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Comic Sans MS"/>
              </a:rPr>
              <a:t>антагонистом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428760" y="428760"/>
          <a:ext cx="8340480" cy="60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428760"/>
                    <a:ext cx="8340480" cy="60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85840" y="1214280"/>
            <a:ext cx="8858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Рецептори за већину лекова и ендогених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упстанци се могу сврстати у неколик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група на основу сличног механизма п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оме функциониш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што се сматра да је свака од ових група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астала током еволуције од једног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заједничког претка - могло би с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условно рећи "примитивног рецептора" 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азивамо их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рецепторским фамилијам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785880" y="1714680"/>
            <a:ext cx="7858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За сада знамо за четири велике фамилије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тзв. суперфамилиј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рецептори јонски кана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рецептори мембрански ензи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рецептори везани за Г-протеин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интрацелуларни рецептори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785880" y="1357200"/>
            <a:ext cx="771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цептори који представљају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јонске канал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лазе се у мембрани ћелије и у стањ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ировања су затворени. Када се агонист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лек или нека ендогена супстанца) веже з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вакав рецептор, долази д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нформационих промена у њему и настај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ор (канал) кроз који могу да прођу јо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714240" y="4071960"/>
            <a:ext cx="764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јпознатији рецептори јонски канали с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никотински рецептор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канали за јо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тријума) 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рецептори за ексцитаторне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аспартат, глутамат) 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инхибиторн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гама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минобутерна киселина-ГАБА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аминокиселин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878840" y="571680"/>
            <a:ext cx="497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Рецептори јонски кан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Slobodan Jankovic</cp:lastModifiedBy>
  <dcterms:modified xsi:type="dcterms:W3CDTF">2014-07-12T07:47:03Z</dcterms:modified>
  <cp:revision>40</cp:revision>
  <dc:subject/>
  <dc:title>Slide 1</dc:title>
</cp:coreProperties>
</file>