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B6B-D0A8-4F49-9067-39DE290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C82-795E-474A-92A1-AFFFACAC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9EA-0A2B-46AD-ADB1-EE460493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3AB-3CA0-483C-B6BA-1EDF9778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97E-9A02-47E6-949E-AB251B4B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6B8-0977-466F-B86A-ED9459D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56E-B4F7-417A-AD42-0D53DB4D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05E-781B-4DB2-9912-306BB56C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436-051E-4D89-A177-44D1EF9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3D4-EC12-4C2A-BB3C-20F89002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C39-CA68-4B74-A014-CDFBD6E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4B8-E3CD-4221-91EE-E810BBB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991-DEC2-498D-A957-D7FCF62F647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aleksinac.net/files/radijacija.jpg&amp;imgrefurl=http://www.aleksinac.net/%3Fview%3Dlat%26action%3Dnews%26id%3Dodakle-radioaktivni-otpad%26category%3Dblog&amp;usg=__PbqfAhCuQ8tPWNn8eUv90xvbSyo=&amp;h=290&amp;w=300&amp;sz=15&amp;hl=en&amp;start=5&amp;zoom=1&amp;tbnid=vNmNDfoYqJFiXM:&amp;tbnh=112&amp;tbnw=116&amp;ei=7N5tTpzUJNLE4gTl4u3NBA&amp;prev=/search%3Fq%3Dradioaktivnost%26hl%3Den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14308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000080" y="228600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 премошћава липидни слој мембране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о да поседује два функционална дела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 са спољашње стране мембран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се везују лекови (или ендоге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е) и други са унутрашње стра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функционише као енз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22960" y="1000080"/>
            <a:ext cx="72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нсмембрански енз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071720" y="1857240"/>
            <a:ext cx="714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везани за Г-протеине су вео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ојни. Ту спадај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дренергичк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мускарински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пам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многи др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и се структурно карактеришу тиме шт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ихов пептидни ланац седам пут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лази с краја на крај ћелијс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05680" y="785880"/>
            <a:ext cx="62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зани за Г-проте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85880" y="200016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интраћелијске рецепторе (неки од њих су 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топлазми а неки у једру) могу да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жу само супстанце које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посолубилне, тј. које могу слобод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дифундују кроз липидни слој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 ћелије. То су пре свег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тероидни хормо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гликокортикоиди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трогени, андрогени, прогестерон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хормони тироиде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липосолубилни витамини А и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910520" y="857160"/>
            <a:ext cx="51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нтраћелијски рецеп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71680" y="855720"/>
            <a:ext cx="8072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фекат неког лека на организам ће бити утолико већи уколико је он присутан у већој мери у близини места свог дејства (најчешће су то рецептор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лекови до свог места деловања у ткиву доспевају из крви пацијента, они ће на месту свог деловања бити више присутни уколико им је концентрација у крви виша; наравно, концентрација лека у крви ће бити виша уколико је доза лека већа, тј. уколико је пацијент узео већу количину лека. То значи да је ефекат лека у организму утолико већи уколико је доза лека већа, односно уколико је концентрација у крви ве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ва законитост се назив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зна зависност ефек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ми на њој базирамо одређивање потребне дозе лека за сваког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27840" y="28728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НОС ДОЗЕ И ЕФЕКТ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ерапијски индекс и терапијска ши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он између минималне дозе лека која изазива повољни ефекат у организму и минималне дозе лека која изазива токсични ефекат називамо терапијска ширина ле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ски индекс је однос дозе лека која код 50% болесника изазива токсични ефекат (TD50) и дозе лека која код 50% болесника изазива жељени ефекат (ED50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85880" y="2071800"/>
            <a:ext cx="771516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екови могу бити синтетског, биљног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животињског или минералн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поре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иљно порекло – диг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отињско порекло – 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ерално порекло – бела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интетски лек - метопрол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61560" y="78588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ЕЛА ЛЕКОВА ПО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85840" y="9288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врло јаког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claudend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Vene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= отров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упстанце које спадају у ову групу се морају чувати у апотеци одвојено од осталих лекова и под кљу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суде у којима се ови лекови чувају морају бити означене именом дотичног лека исписаним белим словима на црној подлози и знаком двоструког крста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143000" y="1643040"/>
            <a:ext cx="721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2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јаког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separanda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= одвојени лек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из ове групе се не мора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кључавати у апотеци, већ је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вољно само да се чувају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двојено од других лекова.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значавају се једним крстом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28760" y="714240"/>
            <a:ext cx="8286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Опојне дро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ојне дрог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 лековити препарат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љавају снажно дејство на психичк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ункције човека. Опојн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оге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рају чувати под кључем, у посебној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рији која је такође закључ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уде са опојним дрогама се означава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исти начин као лекови врло јаког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јаког дејства, с тим што се додаје и знак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оструког параграфа (§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14240" y="80100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1" lang="sv-SE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диоактивни лек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диоактивни лекови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морају чув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кључани, у посебним олов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тијама које апсорбују зрачење. Означавају се црвено обојеним знак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радиоактивност на жутом пољу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1.gstatic.com/images?q=tbn:ANd9GcR2Rcsxv_fGT2IKfKbz-GK0zI0jDFZL6lNIFBuKxytASfr5rdKhf-Fqp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443376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680" y="11595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ригониц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игониц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које смању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сихомоторну способност болесника.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зивају се тригоници зато што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чавају црвеним троуглом 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м пољ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71880" y="4572000"/>
            <a:ext cx="207180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4"/>
          <p:cNvSpPr/>
          <p:nvPr/>
        </p:nvSpPr>
        <p:spPr>
          <a:xfrm>
            <a:off x="3286080" y="4857840"/>
            <a:ext cx="1643040" cy="1071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00040" y="13572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исту лекова, са максимално дозвоље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зама, који се могу купити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, утврђује својим акт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инистарство здравља или в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Такве лекове називамо </a:t>
            </a:r>
            <a:r>
              <a:rPr b="1" lang="it-IT" sz="2800" spc="-1" strike="noStrike" u="sng">
                <a:solidFill>
                  <a:srgbClr val="c00000"/>
                </a:solidFill>
                <a:uFillTx/>
                <a:latin typeface="Comic Sans MS"/>
              </a:rPr>
              <a:t>OTC препаратима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је скраћеница њиховог назива 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англо-саксонским земља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er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unter лекови (леков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е издају “преко касе”, тј. за новац, а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2071800"/>
            <a:ext cx="871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је писано упутство на латинском језик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 справљање и издавање лека које лека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аље апотекару. Пошто од рецепт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вис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а ће апотекар издати болеснику и какв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путство за примену ће му дати, рецепт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ра бити написан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прецизн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према св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важећим правилима) и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читк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707640" y="857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00040" y="1500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Назив рецепт потиче од латинске реч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praeceptum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значи пропис. Сам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слабог дејства се могу из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 апотеци без лекарског рецепта; св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стали лекови се могу изд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сам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може да напише само лекар (али 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томатолог или ветеринар) који ј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ложио државни испит (дакле им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раво да обавља праксу на територи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рб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707640" y="7142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428920" y="1071720"/>
            <a:ext cx="45720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ЕЛОВИ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IG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71680" y="215820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sal tablettae         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N</a:t>
            </a:r>
            <a:r>
              <a:rPr b="0" lang="pt-BR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Четири пута дневно разму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таблету у чаши вод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ти 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992160" y="85716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ГОТОВ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17200" y="85716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МАГИСТРАЛ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34324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             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                           ad   10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. Споља, посути оболела места три п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840" y="10717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mic Sans MS"/>
              </a:rPr>
              <a:t>Фармак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је наука која про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нтеракције хемијских с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станци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им организмом. Сачињавају је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ка дела: фармакодинамика 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армакокине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динам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оучава дејства ле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 организам, а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кинет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дбину лека у 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псорпциј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трибуцију, метаболизам и екскрециј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10717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већи број лекова делује тако што се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 везује за специфичн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сто које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рецепто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цептор је увек макромолекул, најчешћ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теин, за кога се у физиолошк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ма везује нека природн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догена супстанца, изазивају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мене у облику рецептора (тзв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ормационе промене). Такв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пстанцу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догени лиган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0004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лек изазива промене облика рецептор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ичне променама које настају посл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зивања ендогеног лиг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пређе у активно стање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кав лек називамо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пак лек после везивања за рецептор 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азове никакве промене о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остаје у инактивном стању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ћ само омета везивање (а тим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јство) ендогеног лиганда, такав 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нт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428760" y="428760"/>
          <a:ext cx="8340480" cy="60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28760"/>
                    <a:ext cx="8340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121428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цептори за већину лекова и ендогених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пстанци се могу сврстати у неколик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упа на основу сличног механизма 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ме функциони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што се сматра да је свака од ових груп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стала током еволуције од једн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једничког претка - могло би с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словно рећи "примитивног рецептора"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зивамо их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ским фамилијам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171468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сада знамо за четири велике фамилије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зв. суперфамил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јонски кан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мембрански енз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везани за Г-протеи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интрацелуларни рецеп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85880" y="13572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који представља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јонске кана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азе се у мембрани ћелије и у стањ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ровања су затворени. Када се агони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лек или нека ендогена супстанца) веж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ав рецептор, долаз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нформационих промена у њему и наста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ор (канал) кроз који могу да прођу ј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4071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познатији рецептори јонски канали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икот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анали за јо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ријума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рецептори за ексцитаторне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аспартат, глутамат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инхибитор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гама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минобутерна киселина-ГАБА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878840" y="57168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 јонски ка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7:47:03Z</dcterms:modified>
  <cp:revision>40</cp:revision>
  <dc:subject/>
  <dc:title>Slide 1</dc:title>
</cp:coreProperties>
</file>